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15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95489-C3E3-495F-9F95-7301120C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8E392-507E-4C8F-9BA3-354F25AE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36D58-B00D-4F39-960E-0784522B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0A87-B9D8-4E69-8076-46C44F8E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1B17-068D-4638-B7F4-78A0745F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8B77-63CB-4576-9B5C-48E6C921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22FE-6408-40A1-8EC1-93DCB585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9326-CEC1-4C61-88A3-47021A55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E81F-623A-4F31-9480-7C287C3D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E2FD-2DA1-42AF-93DB-D7611720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5F9D-0E81-485B-B9C6-C97E9525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ED0D-5E73-4E44-9B70-F796DDAE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4208-9432-4065-9223-DEE099D4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6502-30F1-4413-972D-A9DFF9A2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285F-38E2-43F9-A346-941D8809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4B5E-90B1-4756-9AB3-695D7097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BFB4-428E-4BE7-9AC4-29F2A15C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9E8A3-D790-432B-8792-B735C5AF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D480C-4173-4BFF-92EC-2E93E065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09ADA-C88A-4557-8EC2-12F4549A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5C82D-A111-4775-82D1-6041F9AA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6F11-4586-4F3F-A00A-3D9AA105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C085-58CF-4E80-B74F-306F8A9F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81562-DEEC-4542-B9DB-DD23FDAA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C51C-8012-4589-BFB4-17F9CEDBA3A3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9CCF-CCDE-4254-B90E-2A14DB061274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91856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Mecanismos e Valores da Cobrança pelo Uso da Água na Bacia do Rio São Francisco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 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4ª Reunião CTCOB- CNR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omaz Matta Mach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.20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61720" y="623736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ropriá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 rot="10800000">
            <a:off x="3779640" y="97992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5530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40360" y="306864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Garajú - AL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962280" y="432000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12160" y="615780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318240" y="6491160"/>
            <a:ext cx="60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7876440" y="424692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3920" y="47628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SE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3280" y="65088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57400" y="4292640"/>
            <a:ext cx="61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-550080" y="578736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150120" y="213372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23280" y="655308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45720" y="61657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8253720" y="54540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Garamond"/>
              </a:rPr>
              <a:t>Rede </a:t>
            </a:r>
            <a:r>
              <a:rPr b="1" lang="pt-BR" sz="4400" spc="-1" strike="noStrike" u="sng">
                <a:solidFill>
                  <a:srgbClr val="ffffff"/>
                </a:solidFill>
                <a:uFillTx/>
                <a:latin typeface="Garamond"/>
              </a:rPr>
              <a:t>EcoVaz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Com vistas à definição de um regime ou hidrograma de vazões ecológicas para o baixo curso do Rio São Francisco, estão sendo realizados estudos por uma rede de pesquisa formada por universidades, localizadas na Bacia (UFBA, UFMG, UFS, UFPE, UFLA), financiada pelo CT-Hidro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(Edital MCT/CNPq – CT-HIDRO 45/2006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A rede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EcoVazão</a:t>
            </a: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 tem como objetivo a articulação de iniciativas, no campo da produção do conhecimento, que avance no sentido da construção de um saber mais próximo das múltiplas e complexas determinações naturais e sociai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Trebuchet MS"/>
              </a:rPr>
              <a:t>COMITÊ DA BACIA DO RIO SÃO FRANCISCO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Instituído por Decreto Presidencial de 05 de junho de 2001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24 Membros: 62 titulares e 62 suplen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mposição: 32,79% Poder Público; 37,70% Usuários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4,59% Sociedade Civil; 4,92% Comunidade Tradicion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iretoria: Presidência – Sociedade Civil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ice Presidência – Poder Público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ecretaria Executiva - Poder Público/ 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to - Poder Público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édio - Sociedade Civil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ub-médio - Poder Público/ P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Baixo - Sociedade Civil/ S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8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0920" y="260280"/>
            <a:ext cx="8712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AVALIAÇÃO DAS ALTERAÇÕES NAS COMUNIDADES DE PEIXES DE LAGOAS MARGINAIS DO BAIXO CURSO DO RIO SÃO FRANCISCO EM FUNÇÃO DE BARRAMENTO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9080" y="198900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Defesa de mestrado em Ecologia Aplic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5516640"/>
            <a:ext cx="5832360" cy="1072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Marília Lourenço dos Sa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rientador: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aulo dos Santos Pomp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-orientad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los Bernardo M. A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57560" y="88920"/>
            <a:ext cx="4998960" cy="66801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5840" y="764640"/>
            <a:ext cx="3673800" cy="4969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IO DAS VELHA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luente em volume e extensão (761 Km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rojeto Manuelzão para Revitalização do Rio das Velh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822240"/>
            <a:ext cx="4464000" cy="58467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9280" y="333000"/>
            <a:ext cx="4105440" cy="6335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ÉDIO SÃO FRANCISC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cho (600 km) entre Pirapora (MG) e Sobradinho (B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o em lagoas margina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353880"/>
            <a:ext cx="8929800" cy="6503760"/>
            <a:chOff x="0" y="353880"/>
            <a:chExt cx="8929800" cy="6503760"/>
          </a:xfrm>
        </p:grpSpPr>
        <p:grpSp>
          <p:nvGrpSpPr>
            <p:cNvPr id="155" name=""/>
            <p:cNvGrpSpPr/>
            <p:nvPr/>
          </p:nvGrpSpPr>
          <p:grpSpPr>
            <a:xfrm>
              <a:off x="2486160" y="2370240"/>
              <a:ext cx="6443280" cy="4487400"/>
              <a:chOff x="2486160" y="2370240"/>
              <a:chExt cx="6443280" cy="448740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0" t="7569" r="5869" b="0"/>
              <a:stretch/>
            </p:blipFill>
            <p:spPr>
              <a:xfrm>
                <a:off x="2486160" y="2370240"/>
                <a:ext cx="6411600" cy="44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"/>
              <a:srcRect l="90859" t="1499" r="0" b="83368"/>
              <a:stretch/>
            </p:blipFill>
            <p:spPr>
              <a:xfrm>
                <a:off x="8431920" y="2442600"/>
                <a:ext cx="49752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0" y="353880"/>
              <a:ext cx="8929800" cy="8193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marL="205560" indent="-205560">
                <a:lnSpc>
                  <a:spcPct val="8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    </a:t>
              </a: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BAIXO SÃO FRANCISCO</a:t>
              </a:r>
              <a:r>
                <a:rPr b="0" lang="en-US" sz="3100" spc="-1" strike="noStrike">
                  <a:solidFill>
                    <a:srgbClr val="ffffff"/>
                  </a:solidFill>
                  <a:latin typeface="Garamond"/>
                </a:rPr>
                <a:t>: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Trecho mais curto (274 km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11280" y="692280"/>
            <a:ext cx="8532720" cy="6024600"/>
            <a:chOff x="611280" y="692280"/>
            <a:chExt cx="8532720" cy="6024600"/>
          </a:xfrm>
        </p:grpSpPr>
        <p:sp>
          <p:nvSpPr>
            <p:cNvPr id="160" name=""/>
            <p:cNvSpPr/>
            <p:nvPr/>
          </p:nvSpPr>
          <p:spPr>
            <a:xfrm>
              <a:off x="3349800" y="692280"/>
              <a:ext cx="57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iqueza espécies migrador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rcRect l="2362" t="3549" r="43648" b="4170"/>
            <a:stretch/>
          </p:blipFill>
          <p:spPr>
            <a:xfrm>
              <a:off x="611280" y="1557360"/>
              <a:ext cx="4535280" cy="515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rcRect l="76779" t="0" r="0" b="73383"/>
            <a:stretch/>
          </p:blipFill>
          <p:spPr>
            <a:xfrm>
              <a:off x="5435640" y="1773360"/>
              <a:ext cx="1655640" cy="12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166360" y="5094360"/>
              <a:ext cx="359748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Kruscal-Wallis: p = 0,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Black"/>
              </a:rPr>
              <a:t>RESULTADOS E DISCUSS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n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296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2016000"/>
            <a:ext cx="7993080" cy="4149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6"/>
          <p:cNvSpPr/>
          <p:nvPr/>
        </p:nvSpPr>
        <p:spPr>
          <a:xfrm>
            <a:off x="457200" y="557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se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Qcap  Qcons   CODBO 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ap = Qcap x PPUcap x Kca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ons = Qcons x PPUcons x Kc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DBO = CODBO x PPULanç x Klan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In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 total = Valorcap  +  Valorcons + ValorDBO x Kgestã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Ex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Valor total</a:t>
            </a:r>
            <a:r>
              <a:rPr b="1" lang="en-A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=  valorcap+ valorcons x kprioridade x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rebuchet MS"/>
              </a:rPr>
              <a:t>VALORES UNITÁRIOS DE COBRANÇA PPUS NA BACIA DO RIO SÃO FRANCISCO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2060640"/>
          <a:ext cx="8229600" cy="38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ipo de us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id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 (R$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taçã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sum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nçamento de carga orgânica DB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5,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D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55308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VALORES DOS COEFICIENTES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MULTIPLICADORES DE COBRANÇA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42080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rm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cap 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cons irri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 (para irrigação, criação animal e aquicultur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(demais setores usuári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lan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prioridad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basteciment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t. 3º - Deliberação CBHSF nº1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492/2004 (coordenadas específicas e distint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390/200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§1º, do art. 7º - Resolução CNRH nº 48 (diferenciação dos valor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lução nº 1 /2005 Outorga Vale (barragem, captação e lançamento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9220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de 26,40m3/s ( Outorga 11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 prioridade Deliberação CBHSF nº18/200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Leste 10,29m³/s K prioridade= 0,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Norte 16,11m³/s K prioridade é igual a 1,0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média plurianual outorgad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SIDERAÇÕES FINAI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ponibilidade hídrica – NEST-109,9m³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s 44,45,46..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Vazão firme em cada eix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ferenciação dos eixos: K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Garamond"/>
              </a:rPr>
              <a:t>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 2, artigo I, Deliberação 45/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ESO/Sergi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a que comitê de baci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rebuchet MS"/>
              </a:rPr>
              <a:t>DADOS DEMOGRÁFICO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Área da bacia: 634.781 km²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8% do território nac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6 Estados: Minas Gerais, Bahia, Pernambuco, Alagoas, Sergipe, Goiá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trito Fede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503 municíp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opulação estimada: 12.796.082 h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USO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670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Geração de energia elétrica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dústr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aneament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gr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esca e aqu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vegaçã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urismo e laze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1. Quantidade de águ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) Geração de energia x outros usos (vazões críticas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)Agricultura irrigada x outros usos, sub-bacias do Paracatu (Entre Ribeiros), Jequitaí-Pacuí (Riachinho), Salitre e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6912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2. Qualidade da água: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aope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das Vel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Verde-Gra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Trechos da Cal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DECISÕES 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ioridade de outorga: uso interno à ba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locação externa: abastecimento humano comprovada a escassez hídric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alocável: 36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mínima diária na foz: 130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stituição do Processo Administrativo 01/2004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tureza jurídica da Agên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Mecanismos e valores de cobrança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AGENDA EM DISCUSSÃO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cação da Entidade Delegatária com funções de Agência da Ba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to de Gest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to da Águas (vazões de entreg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talizaç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cesso administrativo da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ção da vazão ambi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24:58Z</dcterms:created>
  <dc:creator>Medicina Preventiva e Social</dc:creator>
  <dc:description/>
  <dc:language>en-US</dc:language>
  <cp:lastModifiedBy>ANA</cp:lastModifiedBy>
  <dcterms:modified xsi:type="dcterms:W3CDTF">2010-02-24T12:27:08Z</dcterms:modified>
  <cp:revision>8</cp:revision>
  <dc:subject/>
  <dc:title>Mecanismos  Valores da Cobrança pelo Uso da Água na Bacia do Rio São Francisco   </dc:title>
</cp:coreProperties>
</file>